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DDE6-E377-432A-A633-ADB1619F3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0B31-C3F7-4182-A839-EF78D4465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850A-F37D-4010-A842-AC6F14A02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1D89-2EB1-4F8A-ADD7-927BA1FD2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6DC8-ED8D-4748-AF62-18A9CC450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0341-679C-44E9-B9E5-677E06298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D662-3C3F-4E01-AE46-B082CF5DD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D593-BFEE-4CC7-A687-F3195F386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A39C-10D8-4443-B709-BE8A1D956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AAE2-4DD2-4078-B351-23DC5EB8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9422-27A2-40AA-9034-7728EA34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8396-8A85-4748-B878-116DA84DE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EE4CF-1D28-4C46-9605-10C2F8F9D7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47920" y="380880"/>
            <a:ext cx="6400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he  Adventures of  Big  Thumb Guy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6248520" cy="52578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 rot="964800">
            <a:off x="7620120" y="5029200"/>
            <a:ext cx="1295280" cy="1600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 rot="20008800">
            <a:off x="380880" y="5181480"/>
            <a:ext cx="1109880" cy="1371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6019920" y="1905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$2 a comic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15:10:11Z</dcterms:created>
  <dc:creator>SAISD</dc:creator>
  <dc:description/>
  <dc:language>en-US</dc:language>
  <cp:lastModifiedBy>SAISD</cp:lastModifiedBy>
  <dcterms:modified xsi:type="dcterms:W3CDTF">2010-04-14T15:43:09Z</dcterms:modified>
  <cp:revision>2</cp:revision>
  <dc:subject/>
  <dc:title>Slide 1</dc:title>
</cp:coreProperties>
</file>